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tif" ContentType="image/tiff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9363075" cy="7077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C8C851-2F1F-494D-90C2-3C03C7919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sldNum" idx="10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11BA26-A876-4570-9F48-6B3A92A0004F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13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sldNum" idx="19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1931BB-48D2-4520-8B8A-A85572D0B24E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20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178B6CD-5B5E-4DC1-ACDB-E0E7C0841F3F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2913120" y="9216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361080" y="2818440"/>
            <a:ext cx="8712720" cy="4032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21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6B4A74-F0F4-4FF8-AEEA-95818ED36132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22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61E441-FFB5-4981-BCFC-BC12F30958EB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Num" idx="11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D578EDB-47E6-46F8-BE08-892370C1A40C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633440" cy="3344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2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7828EC-BA0F-4772-939F-3FD3314A3B3E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13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44A7EC-1D30-4DEF-A8F4-0CCCBA7A5F1E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4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24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2ED8968-6955-4738-A941-CA25FF8235DE}" type="slidenum">
              <a:rPr b="0" lang="en-CA" sz="24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Num" idx="15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097957D-FEC1-4F0F-A031-2CDBF8A6A40B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793080" y="4420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583640" y="2818440"/>
            <a:ext cx="7490160" cy="4032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6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E1E0F68-0FA0-41CF-9F0E-AB88E27506A2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sldNum" idx="17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480A581-3ADC-4A3A-A987-CF04DBC36D6C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913120" y="530280"/>
            <a:ext cx="3536640" cy="265392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6360" y="3361680"/>
            <a:ext cx="7490160" cy="318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sldNum" idx="18"/>
          </p:nvPr>
        </p:nvSpPr>
        <p:spPr>
          <a:xfrm>
            <a:off x="5303520" y="6721920"/>
            <a:ext cx="4056840" cy="353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3001F90-6426-4902-8732-A94A1A644624}" type="slidenum">
              <a:rPr b="0" lang="en-CA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F2F8-59E1-44C9-AE00-96E83F601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AF6-EAF7-4E3B-B177-AD2696A70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B23B-8234-4F95-B301-F2FBF533F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7FB-7FBC-4B9A-AE6E-0AA333F65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FF0D0-1E27-44FA-9B2A-72C6EC840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D168-71DE-48F7-A3CE-5312B4B7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44806-6FD2-4B39-A186-91D87CAC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F0D1D-6F39-4051-9435-6D0AD10C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71475-DBB4-4E18-BEA2-2B5526BE3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F01C7-EF4D-4FB2-81BF-ADAA90FD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ADE4-1E0C-43CD-9943-A6A2F7F3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FBA6-9B6B-4786-853E-576658CF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A07C-86EF-4A19-88AB-D82A7606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ABA9-EE43-4D20-BFB4-287086C5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B8574-4000-4BDD-AA48-1FC9FADF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F00D1-8A36-4546-AFBC-0C577F1D1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2765-B50F-49AF-90B4-D08341187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05EE-AE9F-4207-9936-4D068244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0510-A754-4D09-9A03-55C1C4440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33FF-5419-4363-997C-F4A7B726B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2620-8141-4E97-A6AC-9C5F48770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DA0-A8C6-4CE5-A83B-5258937C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E86-50B1-45B2-9905-CE945224A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55D6-C0FE-4782-89C7-DA95223A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t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C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CF53147-FFE1-4D68-988B-9BCE44DAC80E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CA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CA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A01BF5-A002-4AD6-BA5D-5707A65BB144}" type="slidenum">
              <a:rPr b="0" lang="en-CA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7640" y="105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1000"/>
          </a:bodyPr>
          <a:p>
            <a:pPr indent="0" algn="ctr">
              <a:lnSpc>
                <a:spcPct val="100000"/>
              </a:lnSpc>
              <a:buNone/>
            </a:pPr>
            <a:r>
              <a:rPr b="1" lang="en-CA" sz="7200" spc="-1" strike="noStrike">
                <a:solidFill>
                  <a:srgbClr val="000000"/>
                </a:solidFill>
                <a:latin typeface="Calibri"/>
              </a:rPr>
              <a:t>Youth Rights in Canada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7640" y="3069000"/>
            <a:ext cx="8229240" cy="7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Julia Mai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20"/>
              </a:spcBef>
              <a:buNone/>
              <a:tabLst>
                <a:tab algn="l" pos="0"/>
              </a:tabLst>
            </a:pPr>
            <a:r>
              <a:rPr b="0" lang="en-CA" sz="3600" spc="-1" strike="noStrike">
                <a:solidFill>
                  <a:srgbClr val="000000"/>
                </a:solidFill>
                <a:latin typeface="Calibri"/>
              </a:rPr>
              <a:t>OCASI – the Ontario Council of Agencies Serving Immigra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C:\Users\jmais\Documents\Summer Student\Youth Project\Presentation\mental health.jpg"/>
          <p:cNvPicPr/>
          <p:nvPr/>
        </p:nvPicPr>
        <p:blipFill>
          <a:blip r:embed="rId1"/>
          <a:stretch/>
        </p:blipFill>
        <p:spPr>
          <a:xfrm>
            <a:off x="2195640" y="2129040"/>
            <a:ext cx="51843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640" y="17006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Bill C-31: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“Making Canada's Asylum System Faster and Fairer”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mmigrant and Refugee Board (IRB) hea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esignated Countries of Orig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Irregular arrival provis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ugg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Advoca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upporting colleagues in the s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llaboration between sec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Youth specific settlement servi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Recognizing context and d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899640" y="2925000"/>
            <a:ext cx="691236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Questions/Com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ulia Mai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jmais@ocasi.or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611640" y="9464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47000"/>
          </a:bodyPr>
          <a:p>
            <a:pPr indent="0" algn="ctr">
              <a:lnSpc>
                <a:spcPct val="100000"/>
              </a:lnSpc>
              <a:buNone/>
            </a:pP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Content Placeholder 2"/>
          <p:cNvSpPr/>
          <p:nvPr/>
        </p:nvSpPr>
        <p:spPr>
          <a:xfrm>
            <a:off x="395640" y="1340640"/>
            <a:ext cx="8229240" cy="7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61"/>
              </a:spcBef>
              <a:tabLst>
                <a:tab algn="l" pos="0"/>
              </a:tabLst>
            </a:pPr>
            <a:endParaRPr b="0" lang="en-CA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C:\Users\jmais\Downloads\ocasi_logo.png"/>
          <p:cNvPicPr/>
          <p:nvPr/>
        </p:nvPicPr>
        <p:blipFill>
          <a:blip r:embed="rId1"/>
          <a:stretch/>
        </p:blipFill>
        <p:spPr>
          <a:xfrm>
            <a:off x="1160640" y="2061000"/>
            <a:ext cx="672804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7640" y="692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 Conv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n the Rights of the Chi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7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nvention details basic human rights that children everywhere have: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right to survival; to develop to the fullest; to protection from harmful influences, abuse and exploitation; and to participate fully in family, cultural and social lif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3" descr="C:\Users\jmais\Documents\Summer Student\Youth Project\Presentation\normal_kids_classroom.jpg"/>
          <p:cNvPicPr/>
          <p:nvPr/>
        </p:nvPicPr>
        <p:blipFill>
          <a:blip r:embed="rId1"/>
          <a:stretch/>
        </p:blipFill>
        <p:spPr>
          <a:xfrm>
            <a:off x="1835640" y="1989000"/>
            <a:ext cx="5567400" cy="37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7640" y="1989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st-secondary education financially prohib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eaming in grade schoo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w E.S.L. graduation r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Family Separ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C:\Users\jmais\Documents\Summer Student\Youth Project\Presentation\normal_Generic_Father_and_Son.jpg"/>
          <p:cNvPicPr/>
          <p:nvPr/>
        </p:nvPicPr>
        <p:blipFill>
          <a:blip r:embed="rId1"/>
          <a:stretch/>
        </p:blipFill>
        <p:spPr>
          <a:xfrm>
            <a:off x="2051640" y="2133000"/>
            <a:ext cx="4980600" cy="33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7640" y="47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mily 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7640" y="1845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accompanied minor unable to include parents and siblings in permanent residency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even sponsorship wait times across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ildren of Live-in Caregivers separated from famil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620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Healt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2" descr="C:\Users\jmais\Documents\Summer Student\Youth Project\Presentation\sick child.jpg"/>
          <p:cNvPicPr/>
          <p:nvPr/>
        </p:nvPicPr>
        <p:blipFill>
          <a:blip r:embed="rId1"/>
          <a:stretch/>
        </p:blipFill>
        <p:spPr>
          <a:xfrm>
            <a:off x="2051640" y="2061000"/>
            <a:ext cx="5067000" cy="33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7640" y="54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al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7640" y="2133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tal and physical health nee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im Federal Health (IFH) cu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HIP three month wait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  <Words>166</Words>
  <Paragraphs>5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9:27:32Z</dcterms:created>
  <dc:creator>dmontague</dc:creator>
  <dc:description/>
  <dc:language>en-US</dc:language>
  <cp:lastModifiedBy>Lorraine Hudson</cp:lastModifiedBy>
  <dcterms:modified xsi:type="dcterms:W3CDTF">2013-01-03T20:01:42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3</vt:r8>
  </property>
  <property fmtid="{D5CDD505-2E9C-101B-9397-08002B2CF9AE}" pid="3" name="PresentationFormat">
    <vt:lpwstr>On-screen Show (4:3)</vt:lpwstr>
  </property>
  <property fmtid="{D5CDD505-2E9C-101B-9397-08002B2CF9AE}" pid="4" name="Slides">
    <vt:r8>13</vt:r8>
  </property>
</Properties>
</file>